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2DB2-54A2-46D5-84B8-09E83C748C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94A-A877-445A-A1A8-939B318E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58C-DFD9-45AF-A329-05C8603F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8B1-9987-4A60-889C-653C663E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321-1F01-43B6-A92F-A533287F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45A-15CC-4C8D-B88B-DCCE9315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04F-47EF-4B1F-92CE-00E2997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9F1-2935-4A9F-8B39-E8EC3854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A9D-F0F7-4222-9A37-A5CE7F3A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354-856E-417A-8E4B-7C5C15BE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3BC-B912-4230-A710-003DD48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B14-DD19-4F8E-A210-4B92CE61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A37-A0EB-4388-87F3-669C994A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CD1F-28AD-46DD-A083-85015897E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s 1 - the 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rubid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caes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19320" y="31240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thium, sodium, potassium, rubidium, caesium, fran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t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utrons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ectr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,8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ced in group 1 as the atom has one electron in its outer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2120" y="33526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 – The alkali met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61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70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6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46Z</dcterms:modified>
  <cp:revision>14</cp:revision>
  <dc:subject/>
  <dc:title>Group 1, the Alkali Metals</dc:title>
</cp:coreProperties>
</file>